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070-68EE-4D31-B313-04CA4ECD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9C2-A5EC-4981-A12F-E3BAD2E1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6C4C-9AA3-4C1C-A6D8-F58AE96F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2EA-6FF9-43BA-9D54-E96B1C98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F5A-572D-4718-A49C-F6B76E9A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6B1F-B414-44CD-82E2-52F7946C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E81-3BAC-4208-BCDC-94D5CA01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AC68-443F-423B-A301-31206421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FF05-4D39-481A-86CC-B6E2762B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D895-445E-4FF0-9B23-430E345C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B51B-D541-4BEF-AB6D-69401A48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94F-D7D8-412B-A536-D4C5963D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B223-B081-48E5-9C73-30A0DEBB3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0" y="1295280"/>
            <a:ext cx="4281480" cy="1973160"/>
            <a:chOff x="4572000" y="1295280"/>
            <a:chExt cx="4281480" cy="1973160"/>
          </a:xfrm>
        </p:grpSpPr>
        <p:graphicFrame>
          <p:nvGraphicFramePr>
            <p:cNvPr id="42" name=""/>
            <p:cNvGraphicFramePr/>
            <p:nvPr/>
          </p:nvGraphicFramePr>
          <p:xfrm>
            <a:off x="4648320" y="1295280"/>
            <a:ext cx="4205160" cy="197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48320" y="1295280"/>
                      <a:ext cx="4205160" cy="19731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6934320" y="12952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572000" y="1295280"/>
                  <a:ext cx="914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460800" y="41400"/>
            <a:ext cx="4432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S WITH 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30480" y="304920"/>
            <a:ext cx="4127760" cy="946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GENERAL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REAT DEPENDENT SOURCES AS REG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URCES AND ADD ONE MORE EQUATION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ONTROLLING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724280" y="502920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15200" y="457200"/>
            <a:ext cx="4341240" cy="94644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CONVENTION ABOUT DEPENDENT SOUR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LESS OTHERWISE SPECIFIED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D VOLTAGE VARIABLES ARE ASSUMED IN 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ITS OF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mp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AND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Vo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6640" y="3048120"/>
            <a:ext cx="455472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THIS EXAMPLE THE MULTIPLIER MUST H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ITS OF O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320" y="1463760"/>
          <a:ext cx="327168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463760"/>
                    <a:ext cx="3271680" cy="1584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6320" y="3581280"/>
                <a:ext cx="34318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THER  DEPENDENT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scalar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 Siemen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scalar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76320" y="5029200"/>
            <a:ext cx="4244400" cy="1231920"/>
            <a:chOff x="76320" y="5029200"/>
            <a:chExt cx="4244400" cy="1231920"/>
          </a:xfrm>
        </p:grpSpPr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76320" y="5029200"/>
                  <a:ext cx="3429000" cy="12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N  ALTERNATIVE  DESCRIPTION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αI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ASSUMES CURRENT IN  mA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2219760" y="5460840"/>
              <a:ext cx="2100960" cy="3070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UNITS ARE EXPLIC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638680" y="1981080"/>
            <a:ext cx="2130480" cy="988920"/>
            <a:chOff x="5638680" y="1981080"/>
            <a:chExt cx="2130480" cy="988920"/>
          </a:xfrm>
        </p:grpSpPr>
        <p:sp>
          <p:nvSpPr>
            <p:cNvPr id="58" name=""/>
            <p:cNvSpPr/>
            <p:nvPr/>
          </p:nvSpPr>
          <p:spPr>
            <a:xfrm>
              <a:off x="5638680" y="1981080"/>
              <a:ext cx="2130480" cy="988920"/>
            </a:xfrm>
            <a:custGeom>
              <a:avLst/>
              <a:gdLst/>
              <a:ahLst/>
              <a:rect l="l" t="t" r="r" b="b"/>
              <a:pathLst>
                <a:path w="1344" h="624">
                  <a:moveTo>
                    <a:pt x="0" y="624"/>
                  </a:moveTo>
                  <a:lnTo>
                    <a:pt x="0" y="0"/>
                  </a:lnTo>
                  <a:lnTo>
                    <a:pt x="1344" y="0"/>
                  </a:lnTo>
                  <a:lnTo>
                    <a:pt x="1344" y="624"/>
                  </a:lnTo>
                  <a:lnTo>
                    <a:pt x="384" y="624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96360" y="2590200"/>
              <a:ext cx="500760" cy="3070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756680" y="3359160"/>
            <a:ext cx="316764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NGLE LOOP CIRCU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E KVL TO DETERMIN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724280" y="4181400"/>
            <a:ext cx="4380480" cy="825120"/>
            <a:chOff x="4724280" y="4181400"/>
            <a:chExt cx="4380480" cy="82512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4724280" y="4181400"/>
                  <a:ext cx="3340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4763520" y="4486320"/>
              <a:ext cx="434124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ONE EQUATION, TWO UNKNOWNS. CONTRO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VARIABLE PROVIDES EXTRA EQ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724280" y="5334120"/>
            <a:ext cx="3736440" cy="628560"/>
            <a:chOff x="4724280" y="5334120"/>
            <a:chExt cx="3736440" cy="628560"/>
          </a:xfrm>
        </p:grpSpPr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4724280" y="5638680"/>
                  <a:ext cx="838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>
              <a:off x="4759560" y="5334120"/>
              <a:ext cx="37011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PLACE AND SOLVE FOR THE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740120" y="5943600"/>
            <a:ext cx="1676160" cy="595440"/>
            <a:chOff x="4740120" y="5943600"/>
            <a:chExt cx="1676160" cy="595440"/>
          </a:xfrm>
        </p:grpSpPr>
        <p:grpSp>
          <p:nvGrpSpPr>
            <p:cNvPr id="68" name=""/>
            <p:cNvGrpSpPr/>
            <p:nvPr/>
          </p:nvGrpSpPr>
          <p:grpSpPr>
            <a:xfrm>
              <a:off x="4740120" y="6248520"/>
              <a:ext cx="1676160" cy="290520"/>
              <a:chOff x="4740120" y="6248520"/>
              <a:chExt cx="1676160" cy="290520"/>
            </a:xfrm>
          </p:grpSpPr>
          <mc:AlternateContent>
            <mc:Choice xmlns:a14="http://schemas.microsoft.com/office/drawing/2010/main" Requires="a14">
              <p:sp>
                <p:nvSpPr>
                  <p:cNvPr id="69" name=""/>
                  <p:cNvSpPr txBox="1"/>
                  <p:nvPr/>
                </p:nvSpPr>
                <p:spPr>
                  <a:xfrm>
                    <a:off x="4740120" y="6248520"/>
                    <a:ext cx="104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0" name=""/>
                  <p:cNvSpPr txBox="1"/>
                  <p:nvPr/>
                </p:nvSpPr>
                <p:spPr>
                  <a:xfrm>
                    <a:off x="5815080" y="6248520"/>
                    <a:ext cx="6012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1" name=""/>
            <p:cNvSpPr/>
            <p:nvPr/>
          </p:nvSpPr>
          <p:spPr>
            <a:xfrm>
              <a:off x="4746960" y="5943600"/>
              <a:ext cx="15674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USE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04920" y="228600"/>
          <a:ext cx="7162560" cy="16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7162560" cy="16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17600" y="1844640"/>
            <a:ext cx="658152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V_s IS KNOWN V_0 CAN BE DETERMINED USING VOLTAGE DIVI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FIND V_s WE HAVE A SINGLE NODE-PAIR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6320" y="2590920"/>
            <a:ext cx="4152600" cy="1281960"/>
            <a:chOff x="76320" y="2590920"/>
            <a:chExt cx="4152600" cy="1281960"/>
          </a:xfrm>
        </p:grpSpPr>
        <p:graphicFrame>
          <p:nvGraphicFramePr>
            <p:cNvPr id="78" name=""/>
            <p:cNvGraphicFramePr/>
            <p:nvPr/>
          </p:nvGraphicFramePr>
          <p:xfrm>
            <a:off x="76320" y="2590920"/>
            <a:ext cx="4038480" cy="725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2590920"/>
                      <a:ext cx="4038480" cy="7254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101160" y="3352680"/>
              <a:ext cx="412776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LGEBRAICALLY, THERE ARE TWO UNKNOW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ND JUST ONE EQ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95680" y="2590920"/>
            <a:ext cx="4595040" cy="1217520"/>
            <a:chOff x="4495680" y="2590920"/>
            <a:chExt cx="4595040" cy="1217520"/>
          </a:xfrm>
        </p:grpSpPr>
        <p:sp>
          <p:nvSpPr>
            <p:cNvPr id="82" name=""/>
            <p:cNvSpPr/>
            <p:nvPr/>
          </p:nvSpPr>
          <p:spPr>
            <a:xfrm>
              <a:off x="4536000" y="2590920"/>
              <a:ext cx="455472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EQUATION FOR THE CONTRO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VARIABLE PROVIDES THE ADDITIONAL EQ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502160" y="3279600"/>
                  <a:ext cx="1396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aphicFrame>
          <p:nvGraphicFramePr>
            <p:cNvPr id="84" name=""/>
            <p:cNvGraphicFramePr/>
            <p:nvPr/>
          </p:nvGraphicFramePr>
          <p:xfrm>
            <a:off x="4495680" y="3108240"/>
            <a:ext cx="959040" cy="70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95680" y="3108240"/>
                      <a:ext cx="959040" cy="7002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86" name=""/>
          <p:cNvGrpSpPr/>
          <p:nvPr/>
        </p:nvGrpSpPr>
        <p:grpSpPr>
          <a:xfrm>
            <a:off x="92160" y="3962520"/>
            <a:ext cx="3504960" cy="1092240"/>
            <a:chOff x="92160" y="3962520"/>
            <a:chExt cx="3504960" cy="1092240"/>
          </a:xfrm>
        </p:grpSpPr>
        <p:graphicFrame>
          <p:nvGraphicFramePr>
            <p:cNvPr id="87" name=""/>
            <p:cNvGraphicFramePr/>
            <p:nvPr/>
          </p:nvGraphicFramePr>
          <p:xfrm>
            <a:off x="92160" y="4208400"/>
            <a:ext cx="3504960" cy="846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160" y="4208400"/>
                      <a:ext cx="3504960" cy="8463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9" name=""/>
            <p:cNvSpPr/>
            <p:nvPr/>
          </p:nvSpPr>
          <p:spPr>
            <a:xfrm>
              <a:off x="106920" y="3962520"/>
              <a:ext cx="29545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UBSTITUTION OF I_0 YIEL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0" y="2743200"/>
            <a:ext cx="4577760" cy="3247920"/>
            <a:chOff x="0" y="2743200"/>
            <a:chExt cx="4577760" cy="3247920"/>
          </a:xfrm>
        </p:grpSpPr>
        <p:sp>
          <p:nvSpPr>
            <p:cNvPr id="91" name=""/>
            <p:cNvSpPr/>
            <p:nvPr/>
          </p:nvSpPr>
          <p:spPr>
            <a:xfrm>
              <a:off x="0" y="2743200"/>
              <a:ext cx="1218960" cy="2514600"/>
            </a:xfrm>
            <a:custGeom>
              <a:avLst/>
              <a:gdLst/>
              <a:ahLst/>
              <a:rect l="l" t="t" r="r" b="b"/>
              <a:pathLst>
                <a:path w="768" h="1584">
                  <a:moveTo>
                    <a:pt x="768" y="384"/>
                  </a:moveTo>
                  <a:lnTo>
                    <a:pt x="720" y="48"/>
                  </a:lnTo>
                  <a:lnTo>
                    <a:pt x="0" y="0"/>
                  </a:lnTo>
                  <a:lnTo>
                    <a:pt x="0" y="432"/>
                  </a:lnTo>
                  <a:lnTo>
                    <a:pt x="720" y="336"/>
                  </a:lnTo>
                  <a:lnTo>
                    <a:pt x="0" y="1008"/>
                  </a:lnTo>
                  <a:lnTo>
                    <a:pt x="96" y="1584"/>
                  </a:lnTo>
                  <a:lnTo>
                    <a:pt x="528" y="1584"/>
                  </a:lnTo>
                  <a:lnTo>
                    <a:pt x="528" y="960"/>
                  </a:lnTo>
                  <a:lnTo>
                    <a:pt x="336" y="816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3080" y="5257800"/>
              <a:ext cx="4234680" cy="733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OTICE THE CLEVER WAY OF WRITING mA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HAVE VOLTS IN ALL NUMERATORS AND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AME UNITS IN DENOMINATO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619440" y="4465800"/>
                <a:ext cx="18669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5638680" y="4130640"/>
            <a:ext cx="2451240" cy="822240"/>
            <a:chOff x="5638680" y="4130640"/>
            <a:chExt cx="2451240" cy="822240"/>
          </a:xfrm>
        </p:grpSpPr>
        <p:sp>
          <p:nvSpPr>
            <p:cNvPr id="95" name=""/>
            <p:cNvSpPr/>
            <p:nvPr/>
          </p:nvSpPr>
          <p:spPr>
            <a:xfrm>
              <a:off x="5951520" y="4130640"/>
              <a:ext cx="178092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VOLTAGE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5638680" y="4394160"/>
                  <a:ext cx="2451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)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52280" y="152280"/>
                <a:ext cx="10670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8" name=""/>
          <p:cNvGrpSpPr/>
          <p:nvPr/>
        </p:nvGrpSpPr>
        <p:grpSpPr>
          <a:xfrm>
            <a:off x="1101600" y="6480"/>
            <a:ext cx="8012520" cy="733320"/>
            <a:chOff x="1101600" y="6480"/>
            <a:chExt cx="8012520" cy="733320"/>
          </a:xfrm>
        </p:grpSpPr>
        <p:sp>
          <p:nvSpPr>
            <p:cNvPr id="99" name=""/>
            <p:cNvSpPr/>
            <p:nvPr/>
          </p:nvSpPr>
          <p:spPr>
            <a:xfrm>
              <a:off x="1101600" y="142920"/>
              <a:ext cx="54864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73080" y="6480"/>
              <a:ext cx="2741040" cy="733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CL TO THIS NODE.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DEPENDENT SOURCE IS JU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NOTHER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152280"/>
          <a:ext cx="541980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5419800" cy="22590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320" y="76320"/>
                <a:ext cx="12189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5817600" y="304920"/>
            <a:ext cx="220752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E LOOP PROBLEM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ND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N USE OHM’S LA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447920" y="838080"/>
            <a:ext cx="1418760" cy="1066680"/>
            <a:chOff x="1447920" y="838080"/>
            <a:chExt cx="1418760" cy="1066680"/>
          </a:xfrm>
        </p:grpSpPr>
        <p:sp>
          <p:nvSpPr>
            <p:cNvPr id="109" name=""/>
            <p:cNvSpPr/>
            <p:nvPr/>
          </p:nvSpPr>
          <p:spPr>
            <a:xfrm>
              <a:off x="1447920" y="838080"/>
              <a:ext cx="1418760" cy="1066680"/>
            </a:xfrm>
            <a:custGeom>
              <a:avLst/>
              <a:gdLst/>
              <a:ahLst/>
              <a:rect l="l" t="t" r="r" b="b"/>
              <a:pathLst>
                <a:path w="768" h="528">
                  <a:moveTo>
                    <a:pt x="0" y="480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528"/>
                  </a:lnTo>
                  <a:lnTo>
                    <a:pt x="144" y="528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63760" y="900720"/>
              <a:ext cx="127800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KVL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IS LO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001600" y="2489040"/>
            <a:ext cx="5057640" cy="1396800"/>
            <a:chOff x="2001600" y="2489040"/>
            <a:chExt cx="5057640" cy="1396800"/>
          </a:xfrm>
        </p:grpSpPr>
        <p:sp>
          <p:nvSpPr>
            <p:cNvPr id="112" name=""/>
            <p:cNvSpPr/>
            <p:nvPr/>
          </p:nvSpPr>
          <p:spPr>
            <a:xfrm>
              <a:off x="2001600" y="2489040"/>
              <a:ext cx="505764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DEPENDENT SOURCE IS ONE MORE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2215800" y="3123000"/>
            <a:ext cx="4084920" cy="762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15800" y="3123000"/>
                      <a:ext cx="4084920" cy="7628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15" name=""/>
          <p:cNvGrpSpPr/>
          <p:nvPr/>
        </p:nvGrpSpPr>
        <p:grpSpPr>
          <a:xfrm>
            <a:off x="2154600" y="4011480"/>
            <a:ext cx="5179320" cy="1154160"/>
            <a:chOff x="2154600" y="4011480"/>
            <a:chExt cx="5179320" cy="1154160"/>
          </a:xfrm>
        </p:grpSpPr>
        <p:sp>
          <p:nvSpPr>
            <p:cNvPr id="116" name=""/>
            <p:cNvSpPr/>
            <p:nvPr/>
          </p:nvSpPr>
          <p:spPr>
            <a:xfrm>
              <a:off x="2154600" y="4011480"/>
              <a:ext cx="517932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EQUATION FOR THE CONTROLLING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ROVIDES THE ADDITIONAL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2454120" y="4586040"/>
            <a:ext cx="1435320" cy="57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54120" y="4586040"/>
                      <a:ext cx="1435320" cy="5796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19" name=""/>
          <p:cNvGrpSpPr/>
          <p:nvPr/>
        </p:nvGrpSpPr>
        <p:grpSpPr>
          <a:xfrm>
            <a:off x="95400" y="5230800"/>
            <a:ext cx="3960360" cy="871560"/>
            <a:chOff x="95400" y="5230800"/>
            <a:chExt cx="3960360" cy="871560"/>
          </a:xfrm>
        </p:grpSpPr>
        <p:sp>
          <p:nvSpPr>
            <p:cNvPr id="120" name=""/>
            <p:cNvSpPr/>
            <p:nvPr/>
          </p:nvSpPr>
          <p:spPr>
            <a:xfrm>
              <a:off x="95400" y="5230800"/>
              <a:ext cx="3960360" cy="337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REPLACE AND SOLVE FOR CURRENT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Console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380880" y="5562720"/>
            <a:ext cx="1359000" cy="53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880" y="5562720"/>
                      <a:ext cx="1359000" cy="5396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4589280" y="5257800"/>
            <a:ext cx="3024360" cy="787320"/>
            <a:chOff x="4589280" y="5257800"/>
            <a:chExt cx="3024360" cy="787320"/>
          </a:xfrm>
        </p:grpSpPr>
        <p:sp>
          <p:nvSpPr>
            <p:cNvPr id="124" name=""/>
            <p:cNvSpPr/>
            <p:nvPr/>
          </p:nvSpPr>
          <p:spPr>
            <a:xfrm>
              <a:off x="4589280" y="5306760"/>
              <a:ext cx="1872000" cy="337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…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ND FINALLY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6324480" y="5257800"/>
            <a:ext cx="1289160" cy="787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24480" y="5257800"/>
                      <a:ext cx="1289160" cy="7873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127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5410080" cy="2768760"/>
            <a:chOff x="0" y="0"/>
            <a:chExt cx="5410080" cy="2768760"/>
          </a:xfrm>
        </p:grpSpPr>
        <p:graphicFrame>
          <p:nvGraphicFramePr>
            <p:cNvPr id="131" name=""/>
            <p:cNvGraphicFramePr/>
            <p:nvPr/>
          </p:nvGraphicFramePr>
          <p:xfrm>
            <a:off x="0" y="880920"/>
            <a:ext cx="5410080" cy="1887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880920"/>
                      <a:ext cx="5410080" cy="18878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0" y="0"/>
                  <a:ext cx="182880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 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" name=""/>
          <p:cNvSpPr/>
          <p:nvPr/>
        </p:nvSpPr>
        <p:spPr>
          <a:xfrm>
            <a:off x="5505120" y="457200"/>
            <a:ext cx="35946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LOOP ON THE LEFT - KV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NODE-PAIR ON RIGHT - K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90720" y="1371600"/>
            <a:ext cx="761400" cy="990360"/>
            <a:chOff x="990720" y="1371600"/>
            <a:chExt cx="761400" cy="990360"/>
          </a:xfrm>
        </p:grpSpPr>
        <p:sp>
          <p:nvSpPr>
            <p:cNvPr id="136" name=""/>
            <p:cNvSpPr/>
            <p:nvPr/>
          </p:nvSpPr>
          <p:spPr>
            <a:xfrm>
              <a:off x="990720" y="1371600"/>
              <a:ext cx="761400" cy="990360"/>
            </a:xfrm>
            <a:custGeom>
              <a:avLst/>
              <a:gdLst/>
              <a:ahLst/>
              <a:rect l="l" t="t" r="r" b="b"/>
              <a:pathLst>
                <a:path w="384" h="528">
                  <a:moveTo>
                    <a:pt x="48" y="384"/>
                  </a:moveTo>
                  <a:lnTo>
                    <a:pt x="48" y="0"/>
                  </a:lnTo>
                  <a:lnTo>
                    <a:pt x="384" y="0"/>
                  </a:lnTo>
                  <a:lnTo>
                    <a:pt x="384" y="528"/>
                  </a:lnTo>
                  <a:lnTo>
                    <a:pt x="0" y="528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01960" y="1461600"/>
              <a:ext cx="5007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157400" y="2743200"/>
            <a:ext cx="3262320" cy="762120"/>
            <a:chOff x="1157400" y="2743200"/>
            <a:chExt cx="3262320" cy="762120"/>
          </a:xfrm>
        </p:grpSpPr>
        <p:graphicFrame>
          <p:nvGraphicFramePr>
            <p:cNvPr id="139" name=""/>
            <p:cNvGraphicFramePr/>
            <p:nvPr/>
          </p:nvGraphicFramePr>
          <p:xfrm>
            <a:off x="1157400" y="3044880"/>
            <a:ext cx="3262320" cy="4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57400" y="3044880"/>
                      <a:ext cx="3262320" cy="4604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41" name=""/>
            <p:cNvSpPr/>
            <p:nvPr/>
          </p:nvSpPr>
          <p:spPr>
            <a:xfrm>
              <a:off x="1159200" y="2743200"/>
              <a:ext cx="5007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00400" y="3429000"/>
            <a:ext cx="4292640" cy="822240"/>
            <a:chOff x="3200400" y="3429000"/>
            <a:chExt cx="4292640" cy="822240"/>
          </a:xfrm>
        </p:grpSpPr>
        <p:graphicFrame>
          <p:nvGraphicFramePr>
            <p:cNvPr id="143" name=""/>
            <p:cNvGraphicFramePr/>
            <p:nvPr/>
          </p:nvGraphicFramePr>
          <p:xfrm>
            <a:off x="3200400" y="3581280"/>
            <a:ext cx="1932120" cy="550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3581280"/>
                      <a:ext cx="1932120" cy="5504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"/>
            <p:cNvGraphicFramePr/>
            <p:nvPr/>
          </p:nvGraphicFramePr>
          <p:xfrm>
            <a:off x="5105520" y="3429000"/>
            <a:ext cx="2387520" cy="822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05520" y="3429000"/>
                      <a:ext cx="2387520" cy="8222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47" name=""/>
          <p:cNvSpPr/>
          <p:nvPr/>
        </p:nvSpPr>
        <p:spPr>
          <a:xfrm>
            <a:off x="5057640" y="4267080"/>
            <a:ext cx="25275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SO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971800" y="838080"/>
            <a:ext cx="1735920" cy="533160"/>
            <a:chOff x="2971800" y="838080"/>
            <a:chExt cx="1735920" cy="533160"/>
          </a:xfrm>
        </p:grpSpPr>
        <p:sp>
          <p:nvSpPr>
            <p:cNvPr id="149" name=""/>
            <p:cNvSpPr/>
            <p:nvPr/>
          </p:nvSpPr>
          <p:spPr>
            <a:xfrm>
              <a:off x="4206960" y="838080"/>
              <a:ext cx="5007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71800" y="1142640"/>
              <a:ext cx="144756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006560" y="4267080"/>
            <a:ext cx="2041200" cy="1066680"/>
            <a:chOff x="1006560" y="4267080"/>
            <a:chExt cx="2041200" cy="106668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1008360" y="4581000"/>
                  <a:ext cx="203940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"/>
            <p:cNvSpPr/>
            <p:nvPr/>
          </p:nvSpPr>
          <p:spPr>
            <a:xfrm>
              <a:off x="1006560" y="4267080"/>
              <a:ext cx="50076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4" name=""/>
          <p:cNvGraphicFramePr/>
          <p:nvPr/>
        </p:nvGraphicFramePr>
        <p:xfrm>
          <a:off x="3048120" y="4724280"/>
          <a:ext cx="2514600" cy="62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4724280"/>
                    <a:ext cx="2514600" cy="6289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990720" y="5410080"/>
            <a:ext cx="4876200" cy="914040"/>
            <a:chOff x="990720" y="5410080"/>
            <a:chExt cx="4876200" cy="914040"/>
          </a:xfrm>
        </p:grpSpPr>
        <p:graphicFrame>
          <p:nvGraphicFramePr>
            <p:cNvPr id="157" name=""/>
            <p:cNvGraphicFramePr/>
            <p:nvPr/>
          </p:nvGraphicFramePr>
          <p:xfrm>
            <a:off x="990720" y="5410080"/>
            <a:ext cx="2505240" cy="914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90720" y="5410080"/>
                      <a:ext cx="2505240" cy="914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3497400" y="5410080"/>
            <a:ext cx="2369520" cy="907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497400" y="5410080"/>
                      <a:ext cx="2369520" cy="9072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161" name="" descr=""/>
          <p:cNvPicPr/>
          <p:nvPr/>
        </p:nvPicPr>
        <p:blipFill>
          <a:blip r:embed="rId15"/>
          <a:stretch/>
        </p:blipFill>
        <p:spPr>
          <a:xfrm>
            <a:off x="860904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49:34Z</dcterms:created>
  <dc:creator>student</dc:creator>
  <dc:description/>
  <dc:language>en-US</dc:language>
  <cp:lastModifiedBy>Jorge Aravena</cp:lastModifiedBy>
  <dcterms:modified xsi:type="dcterms:W3CDTF">2004-07-25T15:12:27Z</dcterms:modified>
  <cp:revision>8</cp:revision>
  <dc:subject/>
  <dc:title>No Slide Title</dc:title>
</cp:coreProperties>
</file>